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055-34CE-42E9-B9F2-BEF645DA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110-5362-4269-A191-8613B46A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E217-7440-4930-B711-8B3D4AD6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4E11-ABB1-4FD1-943B-7B98D3F4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08F-3F4D-410C-8E30-F7EFD8A3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C33C-4F29-4B83-B1CA-C4F25330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E03D-56D4-42DB-80C1-9989647E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3AA8-F9FD-42D6-AAEB-91873366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8E12-C5EA-4230-BFB8-4980C2B5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4C9D-23E4-453F-947F-6EC100DA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CA1E-3146-4D2E-8E38-6E3DE3BD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1F6-71D2-4B11-8B0A-8C2488BB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158E-5B3F-4358-8AE5-22DF35CE5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d.search.yahoo.co.jp/MMSIMG/Q=%A4&#1188;&#676;&#1956;&#292;%EA/U=http%3A%2F%2Fwww6.nsk.ne.jp%2Fyouchien1%2Fgyoujiyotei%2Fimg%2Fhinamatsuri.jpg/O=9b05cc42dca39498/P=83/C=6ufosb50h55a3&amp;b=2/F=f/I=yahoojp/T=1109805794/*-http://www6.nsk.ne.jp/youchien1/gyoujiyotei/img/hinamatsuri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crd.search.yahoo.co.jp/MMSIMG/Q=%A4&#1188;&#676;&#1956;&#292;%EA/U=http%3A%2F%2Fwww.kenkoukazoku.net%2Fhealthyrecipe%2Fphoto%2Fp_50011.jpg/O=551a3421e63c862a/P=56/C=6ufosb50h55a3&amp;b=2/F=f/I=yahoojp/T=1109805541/*-http://www.kenkoukazoku.net/healthyrecipe/photo/p_50011.jpg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crd.search.yahoo.co.jp/MMSIMG/Q=%A4&#1188;&#676;&#1956;&#292;%EA/U=http%3A%2F%2Fwww.pal.or.jp%2Frecipe%2Fcooking%2Fimg_i%2Frec0422.jpg/O=6e24c86ad986372c/P=67/C=6ufosb50h55a3&amp;b=2/F=f/I=yahoojp/T=1109805670/*-http://www.pal.or.jp/recipe/cooking/img_i/rec0422.jpg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d.search.yahoo.co.jp/MMSIMG/Q=%A4&#1188;&#676;&#1956;&#292;%EA/U=http%3A%2F%2Fwww.tjf.or.jp%2Fdeai%2Fcontents%2Fteacher%2Fmini_en%2Fpic_mini%2Fk0267.jpg/O=e8f9a672ade771d8/P=34/C=6ufosb50h55a3&amp;b=2/F=f/I=yahoojp/T=1109805423/*-http://www.tjf.or.jp/deai/contents/teacher/mini_en/pic_mini/k0267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rd.search.yahoo.co.jp/MMSIMG/Q=%A4&#1188;&#676;&#1956;&#292;%EA/U=http%3A%2F%2Fwww.shimonita.ne.jp%2Fblog%2Faokura-hoikuen%2Fmiman%2Fimages%2FIMG_5200.jpg/O=37c2a82f4f7831aa/P=103/C=6ufosb50h55a3&amp;b=2/F=f/I=yahoojp/T=1109820645/*-http://www.shimonita.ne.jp/blog/aokura-hoikuen/miman/images/IMG_5200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rd.search.yahoo.co.jp/MMSIMG/Q=%A4&#1188;&#676;&#1956;&#292;%EA/U=http%3A%2F%2Flisyk.at.infoseek.co.jp%2Fimage%2Fcut_027.jpg/O=1dc40b9220a291ec/P=2/C=6ufosb50h55a3&amp;b=2/F=f/I=yahoojp/T=1109805232/*-http://lisyk.at.infoseek.co.jp/image/cut_027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crd.search.yahoo.co.jp/MMSIMG/Q=%A4&#1188;&#676;&#1956;&#292;%EA/U=http%3A%2F%2Ftravel.tipst.com%2Fbicycle%2F03_03month%2Fpicture%2F21_08a.JPG/O=83227fc5a9148cc0/P=33/C=6ufosb50h55a3&amp;b=2/F=f/I=yahoojp/T=1109805391/*-http://travel.tipst.com/bicycle/03_03month/picture/21_08a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rd.search.yahoo.co.jp/MMSIMG/Q=%A4&#1188;&#676;&#1956;&#292;%EA/U=http%3A%2F%2Fwww.ajkj.jp%2Fajkj%2Ffukuoka%2Fyanagawa%2Fkanko%2Fhinamatsuri%2Fhinamatsuri_450.jpg/O=d06828b2ce6a16a0/P=15/C=6ufosb50h55a3&amp;b=2/F=f/I=yahoojp/T=1109820125/*-http://www.ajkj.jp/ajkj/fukuoka/yanagawa/kanko/hinamatsuri/hinamatsuri_450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rd.search.yahoo.co.jp/MMSIMG/Q=%A4&#1188;&#676;&#1956;&#292;%EA/U=http%3A%2F%2Fwww.naf.co.jp%2Fsansuiso%2Fpic%2Fsea-20030222.jpg/O=0924f82b40fa0a8a/P=11/C=6ufosb50h55a3&amp;b=2/F=f/I=yahoojp/T=1109805334/*-http://www.naf.co.jp/sansuiso/pic/sea-20030222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rd.search.yahoo.co.jp/MMSIMG/Q=%A4&#1188;&#676;&#1956;&#292;%EA/U=http%3A%2F%2Fwww.oita-press.co.jp%2Fdata%2Fchokan%2F2005-02-14%2F187827-1.jpg/O=4bc3a3b791ef38ac/P=35/C=6ufosb50h55a3&amp;b=2/F=f/I=yahoojp/T=1109805483/*-http://www.oita-press.co.jp/data/chokan/2005-02-14/187827-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crd.search.yahoo.co.jp/MMSIMG/Q=%A4&#1188;&#676;&#1956;&#292;%EA/U=http%3A%2F%2Fwww.city.obanazawa.yamagata.jp%2Fsoum%2Fimg%2Fshiho047.jpg/O=d9b63e1593eb5714/P=48/C=6ufosb50h55a3&amp;b=2/F=f/I=yahoojp/T=1109805601/*-http://www.city.obanazawa.yamagata.jp/soum/img/shiho047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rd.search.yahoo.co.jp/MMSIMG/Q=%C5%ED%A4&#946;%D6/U=http%3A%2F%2Fedaminami.hp.infoseek.co.jp%2Fflower%2Fs-peach%2Fpeach04.JPG/O=048c83e8df20a942/P=12/C=6ufosb50h55a3&amp;b=2/F=f/I=yahoojp/T=1109820970/*-http://edaminami.hp.infoseek.co.jp/flower/s-peach/peach04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rd.search.yahoo.co.jp/MMSIMG/Q=%A4&#1188;&#676;&#1956;&#292;%EA/U=http%3A%2F%2Fwww.nadaman.co.jp%2Ftyubo%2Fimg%2Fgirls_b.jpg/O=997c7c78494c0f96/P=44/C=6ufosb50h55a3&amp;b=2/F=f/I=yahoojp/T=1109805629/*-http://www.nadaman.co.jp/tyubo/img/girls_b.jp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ff3399"/>
                </a:solidFill>
                <a:latin typeface="NtMotoyaKyotai"/>
                <a:ea typeface="NtMotoyaKyotai"/>
              </a:rPr>
              <a:t>ひなまつり 三月三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hinamatsur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2708280"/>
            <a:ext cx="576252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1295280" cy="1942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irls have a good time drinking sweet mild rice wine and eating rice cakes, or strawberry cake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p_5001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844640"/>
            <a:ext cx="4152600" cy="3111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rec042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48360" y="3789360"/>
            <a:ext cx="3168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9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189000"/>
            <a:ext cx="3600360" cy="2752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3463920"/>
            <a:ext cx="4230720" cy="3394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138560" y="2924280"/>
            <a:ext cx="5005440" cy="3933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70836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is is called girls’ festival or dolls’ festiv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k026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1628640"/>
            <a:ext cx="3154320" cy="445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IMG_520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1700280"/>
            <a:ext cx="4319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2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ople celebrate their daughters’ growth and good heal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2881440" cy="1844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piyo120_b.jpg"/>
          <p:cNvPicPr/>
          <p:nvPr/>
        </p:nvPicPr>
        <p:blipFill>
          <a:blip r:embed="rId2"/>
          <a:stretch/>
        </p:blipFill>
        <p:spPr>
          <a:xfrm>
            <a:off x="2411280" y="3284640"/>
            <a:ext cx="525636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9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e dolls are displayed only once a year. The dolls represent the emperor, empress, and oth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cut_02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500280"/>
            <a:ext cx="2879640" cy="2001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21_08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59280" y="1989000"/>
            <a:ext cx="561312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9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isplay that consists of a set of 15 dolls in ancient court dress is displayed on a seven – tier stand which is covered with red cl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hinamatsuri_450.j ..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989000"/>
            <a:ext cx="640872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lls are passed down from mothers to daughters as a family heirloom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sea-2003022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62864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814920" y="2349360"/>
            <a:ext cx="53290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7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is has been celebrated in Japan for almost 1000 yea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187827-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557360"/>
            <a:ext cx="3433680" cy="2951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shiho04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3046320"/>
            <a:ext cx="475308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6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also the time that peach trees blossom and so there is also a seasonal peach tree festi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peach0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557360"/>
            <a:ext cx="4175280" cy="3457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0304468.jpg"/>
          <p:cNvPicPr/>
          <p:nvPr/>
        </p:nvPicPr>
        <p:blipFill>
          <a:blip r:embed="rId3"/>
          <a:stretch/>
        </p:blipFill>
        <p:spPr>
          <a:xfrm>
            <a:off x="4788000" y="3573360"/>
            <a:ext cx="417672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cial dishes are made and girls invite special friends over to celebrate wit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girls_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628640"/>
            <a:ext cx="4681440" cy="4087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148360" y="177336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1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23:14:04Z</dcterms:created>
  <dc:creator>kmatsumoto</dc:creator>
  <dc:description/>
  <dc:language>en-US</dc:language>
  <cp:lastModifiedBy>Ministry of Education</cp:lastModifiedBy>
  <dcterms:modified xsi:type="dcterms:W3CDTF">2010-03-28T22:20:01Z</dcterms:modified>
  <cp:revision>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02249475</vt:r8>
  </property>
  <property fmtid="{D5CDD505-2E9C-101B-9397-08002B2CF9AE}" pid="3" name="_AuthorEmail">
    <vt:lpwstr>K.Matsumoto@waicol.co.nz</vt:lpwstr>
  </property>
  <property fmtid="{D5CDD505-2E9C-101B-9397-08002B2CF9AE}" pid="4" name="_AuthorEmailDisplayName">
    <vt:lpwstr>Kaori Matsumoto</vt:lpwstr>
  </property>
  <property fmtid="{D5CDD505-2E9C-101B-9397-08002B2CF9AE}" pid="5" name="_EmailSubject">
    <vt:lpwstr>Thu</vt:lpwstr>
  </property>
  <property fmtid="{D5CDD505-2E9C-101B-9397-08002B2CF9AE}" pid="6" name="_ReviewingToolsShownOnce">
    <vt:lpwstr/>
  </property>
</Properties>
</file>